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ECF7-57F8-4D07-8EA9-08201CF7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CE8D-8DAD-4D3D-A11B-6A668BB6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5E7F-AA60-42D7-87B6-62C10849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DAFC-619B-4CF5-9506-B7348414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3816-4395-45F2-9D5C-DB6D819E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60FF-4404-482C-A7BD-1E12E40E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A2E0-8F57-4C24-AC85-E63B264F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1A3C-6367-438E-8A7E-57E8155B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C10-8359-41EB-BB9E-41ABEFC8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6AD4-3444-40E9-ACFB-A2D9A4E7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D8F2-9567-4D47-AA6F-636CF2CC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971F-53B1-4B29-9346-3FD51E07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fd2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fd29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CD21-90D4-443F-A123-5F20715160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haracte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Writers create characters that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are believable and interesting.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hink about your character in different ways. 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hink about…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Your character’s name and age.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What your character looks like.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What your character likes to do.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How your character gets along with others.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What your character’s life is like and how  he/she feels about it.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28564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Today, in your Writer’s Notebook, you will begin to create your own character.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Use the ideas that we discussed in class to help you with your character profile. 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3:50:42Z</dcterms:created>
  <dc:creator>AAPS</dc:creator>
  <dc:description/>
  <dc:language>en-US</dc:language>
  <cp:lastModifiedBy>Carrie Dworkin</cp:lastModifiedBy>
  <dcterms:modified xsi:type="dcterms:W3CDTF">2005-08-12T16:19:53Z</dcterms:modified>
  <cp:revision>2</cp:revision>
  <dc:subject/>
  <dc:title>Characters</dc:title>
</cp:coreProperties>
</file>